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5.jpeg" ContentType="image/jpeg"/>
  <Override PartName="/ppt/media/image26.jpeg" ContentType="image/jpe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F3A4-6171-4619-9609-2605A6CD1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ures in Biolog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Week i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different form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costs/benefits of each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eek we’ll discuss 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iation - how sexually reproducing organisms devel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separate sexes.  Specifically, as it applies to us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ures in Biolog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Week i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different form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costs/benefits of each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eek we’ll discuss 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iation - how sexually reproducing organisms devel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separate sexes.  Specifically, as it applies to us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reproductive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reproductive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…How Do We Get Fro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sentially a cl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undifferenti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fe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…How Do We Get Fro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sentially a cl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undifferenti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fe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How do our bodies know if we are meant to use the little boys’ room or the little girls’ 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            fac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How do our bodies know if we are meant to use the little boys’ room or the little girls’ 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            fac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chromosome contains a gene known as the SRY (sex determining region on the Y chromosome)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 is responsible for the development of te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about the        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chromosome contains a gene known as the SRY (sex determining region on the Y chromosome)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 is responsible for the development of te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about the        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develops an area known as the urogenital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testes develop, this area will naturally develop into the female reproduc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we are all female by de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develops an area known as the urogenital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testes develop, this area will naturally develop into the female reproduc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we are all female by de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…how does this happen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estes form they release 2 hormones - testosterone &amp; MIS (mullerian inhibiting sub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osterone causes the male reproductive system to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 causes the ducts of the female system to 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…how does this happen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estes form they release 2 hormones - testosterone &amp; MIS (mullerian inhibiting sub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osterone causes the male reproductive system to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 causes the ducts of the female system to 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 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 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3C33-4025-4A48-9E0B-B457A2E9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7066-FC9E-4C87-9C7C-83AE6198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6242A-EC04-4080-8537-ED237C2F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0F452-5373-4E53-B9B8-872FD25B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8AAB8-3B92-4F7F-AE12-FAC4A546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F5B8D-479A-41C3-8EAC-368DB504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E7661-F387-40D7-9FC1-A246AF3B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8AD25-4214-48C9-886F-97172B7E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12D1A-A3F1-4699-8BB7-4D7FDF0C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C64F6-AA87-4F2C-80BC-5F33766B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44310-E34D-4A2C-B931-27923A56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FF772-7591-4848-B2B5-59BCA08C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2C96-B3E8-4789-8203-ED25E763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CF7AE-4CF5-4F8C-AA51-B638AEC7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290E0-1632-41F9-BC88-CD486DC8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C5F5C-0391-43A0-A203-83C2CD98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010C0-57BB-411D-A5B4-2AB64EF6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C3C60-643B-4D80-9996-C39C40A7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FCDF1-6265-4F87-A8F3-6B6D5BE0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AD2D8-C0AD-4220-A5BE-ECC64210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8895E-B5E6-4B45-AFFE-10050BFA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A9D51-8FF7-4B5B-8FEB-377E5A9D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9873D-A14B-43CB-BD94-7B73AA19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26FC-0C77-4556-AA32-30EEBB3F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69D96-7C4C-4A9F-91D1-2DCD9B43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FAF9D-18F8-4074-B3BC-C20DA9B6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222AC-95DB-4381-BBDF-8EFFD6AA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29D86-05BC-47ED-9BAE-5074DDC0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BF576-F9D6-4464-8E9D-4E2DB823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618E2-5CEE-415B-B796-D5DCDE8A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86155-7695-4F99-A196-057E38D1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036A2-DA5C-4A09-93AD-9719F7C0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FE2B3-0D99-4571-9FB6-8840E6CC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C561C-E96A-4851-9ADB-DBAAC8DB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2201-D874-498D-99E2-4F0C717C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52FEE-7FFA-4E1D-A92A-79F9B6FD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65699-F015-4188-92E0-DCEA2240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3A124-045E-433A-8690-09E32328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95002-56F1-4CA6-9C6F-38D18775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E8DDAE-317D-4E5D-87C9-1E387A20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758F3-E658-40F9-B7F3-C38A42C9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6E0F1-2FC3-4CD2-929F-3D6E3A3B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46A24-03C2-4261-BA42-94E9E6ED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FB4D5-5990-4E6A-8A18-D7BADCFA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CF3CD-EB1F-4AFC-873A-D4330110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4631-4B09-444F-A561-235BE580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26BCA-75B1-4D19-9B39-DE932F3F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949E1-6F29-4F6E-AE4F-9880206E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75A2D-8786-47EA-8B92-2DAB4196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23992-F5EA-4A78-8DDC-D3764E93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969D7-DA72-426B-A46A-A3C633E1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1D5E03-1F2A-4B79-93CC-8E212723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36DDB9-63AB-41B3-A049-1CA2F1E7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AF8E63-5CF4-4940-A7B7-D2D90156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BA64D0-8D35-485F-B6DA-F5F1FABE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F9F2BC-C7D8-435E-AE4F-2B1F1789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D352-C5C5-4E94-90C2-C00ABEFB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94E250-4F91-4CC2-B9BB-EBC0EDDB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DA47DD-9696-49C6-8FED-81B6EAE9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6A68FD-FB50-44F0-B03A-F75857D7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BDF233-4EE0-4090-B984-C4FC10A4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6E9C44-A74B-4335-9E16-719B8C2C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BF7673-D643-4802-88C0-D565EC2F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95E247-0A83-4330-BA52-E347330A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21E68F-84F6-4E9A-8D4D-AFD5F3B9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4C8A68-3A1D-49AF-A396-C47E81B6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40831B-B37F-4E41-AB02-2D1458F1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33C2-B73A-405C-A0EB-5BB6AFAB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BD4F52-C3E2-40A3-8F7A-53DFDB23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4C33D8-5097-4A99-9F18-937D710A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D7F698-54C8-4655-8E06-FF111F78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5578B7-745E-458F-991A-2DDA1B15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B12AF3-49A4-4CAC-AC6B-8D6DBD78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A402B4-5B9C-4235-8960-D74AEB41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8EE199-9D06-4C3E-AD0F-7AA341D7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7B97BE-2E3C-4E1A-9752-B4BF72DB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D852C8-A22B-4437-8FBE-C44B8835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D3918F-92E3-43B8-AA78-6682B1AD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5954-917B-4AB8-BFC8-0FE06C83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6E8C69-A980-4C43-9B29-62A60113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7BAD9C-E34A-45DA-8601-0F5666A4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82B7E9-A5B6-4C0E-83CC-A5878B9C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5AC19D-D3B4-40D6-B1DA-7480E4F0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8145D0-E3D2-48F9-9BE2-1A6ED649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BBA797-D3B3-43E8-9805-F3147861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066F03-750E-4711-A65B-8565B1B9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66BA83-7204-4482-831C-5223A781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9E057D-6BF2-43D4-90EE-F3B89657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D7C7FD-E832-4684-AD1A-AC4D7C66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C254-BDBA-48A0-B057-D39120AA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85537E-B9C8-470F-BA9A-43A230E3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DC902C-2305-4A9F-937D-E4FBAC86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235650-7BF7-435B-919D-A2764EFC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C9AB0E-375E-4185-B2A1-C75D5412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E5182E-0016-424A-BB7B-A50C85F8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F5367D-E02D-44AE-9BBD-1741D5A6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4257A0-2FD0-4961-AA7F-A7CD0065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06735F-1B06-44FE-B840-CAE7DB96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AFCE3F-2DA9-458A-A2C6-EC0E08D8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12DDF9-215F-44A9-A027-9621F2AB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876D-583C-47FE-8F0E-6F56E95A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339B5B-F184-4C56-95F7-3831ECFB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96AA60-0F87-41E4-B3EB-2D68ECF41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7C309B-3E65-4D56-A666-B8974628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49F8F0-63D6-463B-A7E8-3EE3CE64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6DE313-974D-4924-995D-09E71688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D0602E-AF56-4E0E-9110-2D49F312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810CA7-59F5-4508-8189-E50DCEC5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ACCF36-B4D2-44A8-8CD3-A0FE11BF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BB480B-35BF-40DC-9993-2C4369EC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F3F2CD-612C-4D77-BE9E-1622F126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8797-0FE4-4ABB-8887-EEEF34B6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6D78-9697-4E5C-992E-4FDEE4D1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F7F297-6B0F-41B6-9CD2-29F554D8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8B839D-2667-4F42-95F4-2A9ADA91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C25FAB-11F8-4AA4-8F99-323BBDE6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B03516-98F7-462D-9BE5-80E06628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3655FF-CB5B-44CC-8902-BEB61701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F7CF2A-014E-4FAB-874F-AD48D2E3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EF66D7-ACA3-4358-81F8-E683CC19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53037A-E7D7-44BD-8E29-958641CD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68DE45-266B-4F71-A9BD-FC6D93F2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6801F0-B29D-4720-AE70-FDB26F4C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8AC3-FC41-4B66-A275-462A0292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219E97-8D10-4D09-8DAF-C60AC223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5A5259-2720-4A77-A2DC-CA4B28FD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509FB2-513B-4290-83B4-1426FDC6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5A7AD9-C5EC-4DDC-BB72-B7346822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75CC6E-F1FF-48E0-A5BD-21EDF416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A1070B-E7D9-4F81-AFD0-B67C8B25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799EAA-86B8-4E05-B83D-B06DF23D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C79FFA-B4BC-46C7-9401-C85478CC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F73E14-83D3-43D3-AD96-2647E9B2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901CE4-33C2-4F3F-B3CB-F9778713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6A88-E824-4C92-B5FE-389495DD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F6C4B9-C235-4704-BB96-1F7015C7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8E4B06-899F-4DFF-BE60-598DC1C9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81A611-41D3-483E-AA2D-C850FA98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8A28B8-1B94-46C3-A35D-79953B7D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9F23B9-CCE5-4343-8389-2D9F0853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9A4F3E-D07A-48BB-9889-AF762259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FA988D-D87D-4F13-817C-C285C81E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B96563-87CB-46BA-946D-47850927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614679-E4C8-44ED-A053-7AB12ED36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93B4D0-C192-4B99-9A43-7A1C2E98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F658-CC6B-4A06-A3E1-25C61D6B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F04E52-79AA-4835-A0C8-A38ECA47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323415-8338-481A-924D-71545FBA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3DA55C-08EF-42A9-8ED0-17C47850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51BA78-9CFC-4F21-8C53-15B41A58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DF25E0-6880-4911-8510-CC713870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5FEA96-2561-4D3C-A26F-05039DF7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F418CC-2DAC-4077-9836-EC80994A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A88AEB-77D2-4B06-B4DE-56A01BA2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23CDB6-527E-4D60-9971-A03FD89F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96B054-7825-4B71-8154-55B5FC2F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F603-06E0-4BA8-B88E-8A2EE303C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AD9BA4-D593-4F32-B68A-AB87FF32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D59596-CE6F-47B1-BD54-2C49CFF9B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896449-26D8-45FC-BBD3-8E9E3557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4D4E47-5F1D-42A1-8BF1-12F29377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C0AB99-91B5-4636-AFD4-6642DB48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80459F-8D96-4D5D-93E6-ABF88414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282A9D-9F5D-40FF-91EB-075E4165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AA7BB6-FFFC-414A-955E-46E1A5FC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1A51FA-9C68-4C45-B329-CF3E0420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C4E8E6-B47E-45E2-ADEC-3093C60D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3A82C-EF8D-49FB-8C39-D1515366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D598BC-172D-4D41-8F07-0D8EDFD1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F7B648-E7FB-495E-A420-2D4CFED7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6E7284-C73F-423A-BA00-0ACF1DFB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77A6B6-20D0-45D1-961D-C54F61A0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8293BC-F188-4D6A-926F-52220FBC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E01041-3896-49C3-BD7C-3C6FB076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E61C8F-1FC7-4F34-88D3-4DC40D28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677655-A18B-44BA-9C04-A45D245C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9E67A0-A720-42AC-8C10-A6E50CA6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1AF8A8-D4F8-4547-A00D-921433F3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7ECDB-0390-4CF8-BEA2-5B66DE54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5F5181-4B7E-4756-89B5-04E67842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598DED-5CD0-451A-AE4F-503FEC7D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00CE2C-D499-4F4B-B203-42C6857F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838FC9-39A8-4C7F-8864-8D1E6CA3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D2BCA0-6D46-4F22-A0DD-8C61E35BA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A76D31-7714-4E57-95C3-A0237BF4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BC43AA-677E-4088-B4DA-798692D4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995BCD-CD99-43BE-A564-5E520738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2FBA67-2202-4ABC-B3C2-02598313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1332EB-C90F-4493-96AA-22691E2E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DB48A-5360-490F-975C-D13E3955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7F5BAF-8228-4CC5-89B2-4DAE177E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3CF3E1-97D6-4917-8D80-305D4FEF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FE7397-AAA0-4506-9FC3-57107173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77B039-1E1C-4E5C-8780-4627590D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B47514-2050-4BF2-AD62-88B61C0A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C1F739-718A-4274-B6DF-4574195A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AD5A55-0914-47A5-A8E1-EBF84442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AD52A2-6A51-4EB1-95F5-E238F4BC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AC500C-E0B2-419D-8D7C-B9C20470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BD43C2-01C2-489B-8373-631196DE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13C8A-7A34-4670-BA79-7BC2A432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C08D38-CB80-4AFA-8CB8-3570C540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EF416B-CEF7-4967-9296-92BEC6CB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60C967-6304-47CA-BEE8-1C1CD94B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DFAA99-9A00-46F7-8339-68CD02D1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58EA68-98CF-4D1B-8591-089143F5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07FF6B-47E4-44A7-AF88-01BC758D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76EADF-47C0-46C2-AC17-F81ED52E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D502C1-EA0A-4750-8D24-C0798173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F440E5-AA4C-49AB-B577-FDF7E487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CAAC8-AD6C-4841-A1E3-1EC089B3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5D63-E8F9-42D3-B61A-FC10DF18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82F66-AAA6-49E8-9386-BF20C729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0B84A-1D19-4497-80B6-95E27A7D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F1501-0A24-4680-A028-8FA3EED2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BF2A4-718C-41DD-B51C-151F1DB5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56D7E-35F2-41DC-85BE-D233A2A5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E450F-6B58-4A6F-9488-697D5293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C4412-507B-4A63-97EA-CDC8310C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F7E05-3EDE-4DE2-A2DB-38F8A65F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EC276-F6C3-4FCF-BC85-D5EE3871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6784E-4E93-4651-A762-E631C0AF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0574-2B9C-40A0-8250-DF7B6CAA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7F1F2-1B08-4507-9B3B-BE266426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510F0-78FC-4FAD-8655-B64C2C2E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505B5-1283-4B59-81B2-502E46CE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0C1A5-E9EF-4C9B-83E3-11C8CB89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0022F-0A64-430F-AE6F-8E82B7E5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FFA3F-61DF-4404-AC87-0EFA2D45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877EE-B09F-4E4B-B877-5B44B159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07375-513C-4759-90D7-7E5DE87E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57A03-E65F-4E11-840C-6957E457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50DFA-42EC-4933-BE7F-64EE9106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60FA-CC74-4C3F-8D26-BC6108EC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5695A-E7E1-432A-801C-C7144118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3524C-917D-4241-9EF6-DFC1CC3B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412FC-4C17-4423-8EFE-9BDD5362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0AB04-4D0E-4D6D-8B0A-EFD9FB94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DA799-76A7-4DA7-8AA0-0655727D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9E602-8F59-45A9-B5D7-56A2FAAC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D221D-A338-4A53-AC0F-82DB62A2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BAAEB-5CA6-4911-A1F6-9D9AFDC8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DBD34-C410-4FF0-AE06-643538B4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79A35-D726-42DD-BADE-A351C641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D8E2-60AD-4743-885C-42C1E677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B25DC-4842-49C5-B819-ECC6CFA4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C10FB-5E24-43E2-87B2-5AE07503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39E1C-C219-4810-8DEF-A05FC175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FD6E7-59A4-4558-8BC4-CE4B1DE0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C66DC-A0C6-40A4-8AF3-3BD06A7E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BC0C3-614A-4F71-B932-1E74F831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C4139-7CE3-4E14-8D4C-D71E6294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02CF3-F142-491E-8A9F-822A30CD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8784E-0D06-4FCC-BD88-548CA46C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D29FE-B630-44D2-B21C-097AFF70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AC0B-1FC4-4B97-89AD-7C3633C9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B5F1E-DC8E-496C-95E9-D79326C1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81E71-2C23-4225-93F2-D21CDBD0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87383-41B9-431A-B71A-0CFD47A7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71374-1B27-40B8-83C5-0FBCDE56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F29FF-8722-48A6-AD24-0609824F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E6839-7167-45E2-BA36-E0BFD119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1905D-0A48-4B25-B3AE-A881CAA9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52674-7724-405F-986C-699BEC03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7CEBC-02C0-4DD6-B01B-91E1E722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7FE68-9C1F-4A27-A382-F7FEC1CC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87DD-85FE-422D-AA23-BB85727C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6FCDD-00BD-4B94-B392-7E18C48C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1A2F2-8524-4DD9-8AE1-33A4E281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37228-272B-4D7C-B795-C687DA7F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D6589-BCEF-4291-B027-DF45EC1E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D5B7F-148E-4D7B-B251-13801811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9964C-946F-4CE0-A0F8-6710890B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6ADAC-067B-4428-A851-CC6AC2AF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20A63-1B85-49C7-9034-30A738B0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E4CEF-2152-412F-8250-2939184F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4DAD3-FD5F-4919-8896-16E92310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3B77-B5A0-44ED-B295-0CCBF8CE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41A87-66D1-4E69-8C37-8E1A0365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263A3-7B9D-4E26-B524-AA032B83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3F457-3E34-4F0D-AD81-B8DF6C24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8182D-B41C-4E5E-B1FE-BAC19A2C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3B109-F2A0-40D3-BCCB-2C8A0287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26D2C-D508-4677-B788-2C4FF0C6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91F15-A06B-43DD-8C19-CD39A390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B137C-1E84-4139-8F16-DA6364AB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F5FEE-D3C5-4049-913C-FD9FE231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C119CE-3696-4BDE-AE62-9D03AA33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0F6E-39A9-4EF2-805F-F8FB33752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1E21-4841-45C1-B368-BBF2288CD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FFE3-7CDA-4D17-BA97-6BE440B44F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828440" y="297180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0B94-CA01-4AC4-94DF-CEF077AAE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3712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9211-A7BB-41DC-BBBD-400974249C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6F31-6E64-490B-A964-53DE47C92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584D-0A8E-4E2A-B71A-318FAAC0AB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7623-5942-4DEA-BFD9-944AB1E75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8AEE-95DE-45EF-9513-D7FB4F64E2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EB83-29B8-4FFF-BDF1-0873ACF65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CE6E-9B63-443A-96E1-1273C51469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ADD1-99BA-4F0C-845D-6ABA9D254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CCE2-3BE5-49CF-9FA6-0DC7FEB50F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51C0-82C6-44BC-BEC2-C8FDA575B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DEC6-4758-4946-BC64-645D8239625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1B91-40CE-42E2-8A21-65A14EA8E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E5F0-5EAA-40A3-9386-F354FA5ECB9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39AF-953B-47CB-ACDB-B4D61C068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2367-FBF9-4FF1-BEE9-7B817C30D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0884-692C-4AF8-A0F8-463C86960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29CF-F67D-49FF-B34F-817E779C9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3934-6B70-4A63-9810-34EE59C13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D271-460F-4B10-A2D5-7571EA159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7D46-95F1-4E63-82EC-DE9BE5A90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205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0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0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0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WordArt 4"/>
          <p:cNvSpPr txBox="1"/>
          <p:nvPr/>
        </p:nvSpPr>
        <p:spPr>
          <a:xfrm>
            <a:off x="2286000" y="762120"/>
            <a:ext cx="5638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dventures in Biology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92" name="Text Box 5"/>
          <p:cNvSpPr/>
          <p:nvPr/>
        </p:nvSpPr>
        <p:spPr>
          <a:xfrm>
            <a:off x="914400" y="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Week in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990720" y="190512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We discussed the different forms of Reproduc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We discussed the costs/benefits of each for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Broadway"/>
              </a:rPr>
              <a:t>This week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we’ll discuss </a:t>
            </a:r>
            <a:r>
              <a:rPr b="0" lang="en-US" sz="2400" spc="-1" strike="noStrike">
                <a:solidFill>
                  <a:srgbClr val="ff0000"/>
                </a:solidFill>
                <a:latin typeface="Broadway"/>
              </a:rPr>
              <a:t>sexual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roadway"/>
              </a:rPr>
              <a:t>differentiation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- how sexually reproducing organisms develop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nto separate sexes.  Specifically, as it applies to us huma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4" name="Місце для нижнього колонтитула 1"/>
          <p:cNvSpPr/>
          <p:nvPr/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2" descr="XX genotype"/>
          <p:cNvPicPr/>
          <p:nvPr/>
        </p:nvPicPr>
        <p:blipFill>
          <a:blip r:embed="rId1"/>
          <a:stretch/>
        </p:blipFill>
        <p:spPr>
          <a:xfrm>
            <a:off x="990720" y="0"/>
            <a:ext cx="1430280" cy="25909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Female Reproductive System 3"/>
          <p:cNvPicPr/>
          <p:nvPr/>
        </p:nvPicPr>
        <p:blipFill>
          <a:blip r:embed="rId2"/>
          <a:stretch/>
        </p:blipFill>
        <p:spPr>
          <a:xfrm>
            <a:off x="4191120" y="457200"/>
            <a:ext cx="2971800" cy="1806480"/>
          </a:xfrm>
          <a:prstGeom prst="rect">
            <a:avLst/>
          </a:prstGeom>
          <a:ln w="0">
            <a:noFill/>
          </a:ln>
        </p:spPr>
      </p:pic>
      <p:sp>
        <p:nvSpPr>
          <p:cNvPr id="1050" name="Line 4"/>
          <p:cNvSpPr/>
          <p:nvPr/>
        </p:nvSpPr>
        <p:spPr>
          <a:xfrm>
            <a:off x="2590920" y="1219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5"/>
          <p:cNvSpPr/>
          <p:nvPr/>
        </p:nvSpPr>
        <p:spPr>
          <a:xfrm>
            <a:off x="2670120" y="609480"/>
            <a:ext cx="14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s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6"/>
          <p:cNvSpPr/>
          <p:nvPr/>
        </p:nvSpPr>
        <p:spPr>
          <a:xfrm>
            <a:off x="4271400" y="2286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 reproductive org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7"/>
          <p:cNvSpPr/>
          <p:nvPr/>
        </p:nvSpPr>
        <p:spPr>
          <a:xfrm>
            <a:off x="7315200" y="1295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8"/>
          <p:cNvSpPr/>
          <p:nvPr/>
        </p:nvSpPr>
        <p:spPr>
          <a:xfrm>
            <a:off x="7165800" y="9907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5" name="Picture 9" descr="Estradiol"/>
          <p:cNvPicPr/>
          <p:nvPr/>
        </p:nvPicPr>
        <p:blipFill>
          <a:blip r:embed="rId3"/>
          <a:stretch/>
        </p:blipFill>
        <p:spPr>
          <a:xfrm>
            <a:off x="457200" y="3352680"/>
            <a:ext cx="3429000" cy="2075040"/>
          </a:xfrm>
          <a:prstGeom prst="rect">
            <a:avLst/>
          </a:prstGeom>
          <a:ln w="0">
            <a:noFill/>
          </a:ln>
        </p:spPr>
      </p:pic>
      <p:sp>
        <p:nvSpPr>
          <p:cNvPr id="1056" name="Text Box 10"/>
          <p:cNvSpPr/>
          <p:nvPr/>
        </p:nvSpPr>
        <p:spPr>
          <a:xfrm>
            <a:off x="1663560" y="537048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Progeste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11"/>
          <p:cNvSpPr/>
          <p:nvPr/>
        </p:nvSpPr>
        <p:spPr>
          <a:xfrm>
            <a:off x="3962520" y="4648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2"/>
          <p:cNvSpPr/>
          <p:nvPr/>
        </p:nvSpPr>
        <p:spPr>
          <a:xfrm>
            <a:off x="4041720" y="4038480"/>
            <a:ext cx="148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Picture 13" descr="Female body"/>
          <p:cNvPicPr/>
          <p:nvPr/>
        </p:nvPicPr>
        <p:blipFill>
          <a:blip r:embed="rId4"/>
          <a:stretch/>
        </p:blipFill>
        <p:spPr>
          <a:xfrm>
            <a:off x="6095880" y="2971800"/>
            <a:ext cx="1300320" cy="3638520"/>
          </a:xfrm>
          <a:prstGeom prst="rect">
            <a:avLst/>
          </a:prstGeom>
          <a:ln w="0">
            <a:noFill/>
          </a:ln>
        </p:spPr>
      </p:pic>
      <p:sp>
        <p:nvSpPr>
          <p:cNvPr id="10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SO…How Do We Get From…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996" name="Picture 4" descr="blastuala"/>
          <p:cNvPicPr/>
          <p:nvPr/>
        </p:nvPicPr>
        <p:blipFill>
          <a:blip r:embed="rId1"/>
          <a:stretch/>
        </p:blipFill>
        <p:spPr>
          <a:xfrm>
            <a:off x="914400" y="3124080"/>
            <a:ext cx="1981080" cy="1474920"/>
          </a:xfrm>
          <a:prstGeom prst="rect">
            <a:avLst/>
          </a:prstGeom>
          <a:ln w="0">
            <a:noFill/>
          </a:ln>
        </p:spPr>
      </p:pic>
      <p:sp>
        <p:nvSpPr>
          <p:cNvPr id="997" name="Line 5"/>
          <p:cNvSpPr/>
          <p:nvPr/>
        </p:nvSpPr>
        <p:spPr>
          <a:xfrm flipV="1">
            <a:off x="2819520" y="2438280"/>
            <a:ext cx="15238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7"/>
          <p:cNvSpPr/>
          <p:nvPr/>
        </p:nvSpPr>
        <p:spPr>
          <a:xfrm>
            <a:off x="2819520" y="3809880"/>
            <a:ext cx="1676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8" descr="Female Reproductive System 2"/>
          <p:cNvPicPr/>
          <p:nvPr/>
        </p:nvPicPr>
        <p:blipFill>
          <a:blip r:embed="rId2"/>
          <a:stretch/>
        </p:blipFill>
        <p:spPr>
          <a:xfrm>
            <a:off x="4419720" y="838080"/>
            <a:ext cx="1166760" cy="281952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9" descr="Male Reproductive System"/>
          <p:cNvPicPr/>
          <p:nvPr/>
        </p:nvPicPr>
        <p:blipFill>
          <a:blip r:embed="rId3"/>
          <a:stretch/>
        </p:blipFill>
        <p:spPr>
          <a:xfrm>
            <a:off x="4419720" y="3429000"/>
            <a:ext cx="1225440" cy="3048120"/>
          </a:xfrm>
          <a:prstGeom prst="rect">
            <a:avLst/>
          </a:prstGeom>
          <a:ln w="0">
            <a:noFill/>
          </a:ln>
        </p:spPr>
      </p:pic>
      <p:sp>
        <p:nvSpPr>
          <p:cNvPr id="1001" name="Text Box 10"/>
          <p:cNvSpPr/>
          <p:nvPr/>
        </p:nvSpPr>
        <p:spPr>
          <a:xfrm>
            <a:off x="901440" y="250344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1"/>
          <p:cNvSpPr/>
          <p:nvPr/>
        </p:nvSpPr>
        <p:spPr>
          <a:xfrm rot="19003200">
            <a:off x="2974320" y="27428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12"/>
          <p:cNvSpPr/>
          <p:nvPr/>
        </p:nvSpPr>
        <p:spPr>
          <a:xfrm rot="1708200">
            <a:off x="2896920" y="4266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3"/>
          <p:cNvSpPr/>
          <p:nvPr/>
        </p:nvSpPr>
        <p:spPr>
          <a:xfrm>
            <a:off x="3262320" y="3618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4"/>
          <p:cNvSpPr/>
          <p:nvPr/>
        </p:nvSpPr>
        <p:spPr>
          <a:xfrm>
            <a:off x="5563800" y="30830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15"/>
          <p:cNvSpPr/>
          <p:nvPr/>
        </p:nvSpPr>
        <p:spPr>
          <a:xfrm>
            <a:off x="978480" y="4608360"/>
            <a:ext cx="218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sentially a cl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undifferenti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16"/>
          <p:cNvSpPr/>
          <p:nvPr/>
        </p:nvSpPr>
        <p:spPr>
          <a:xfrm>
            <a:off x="5338800" y="266688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ully developed adult fe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17"/>
          <p:cNvSpPr/>
          <p:nvPr/>
        </p:nvSpPr>
        <p:spPr>
          <a:xfrm>
            <a:off x="5415120" y="525780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ully developed adult 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In other words, How do our bodies know if we are meant to use the little boys’ room or the little girls’ room?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33160" y="38858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he             facto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Picture 5" descr="Y chromosome"/>
          <p:cNvPicPr/>
          <p:nvPr/>
        </p:nvPicPr>
        <p:blipFill>
          <a:blip r:embed="rId1"/>
          <a:stretch/>
        </p:blipFill>
        <p:spPr>
          <a:xfrm>
            <a:off x="2971800" y="4191120"/>
            <a:ext cx="1593720" cy="22096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9" descr="Bathrooms"/>
          <p:cNvPicPr/>
          <p:nvPr/>
        </p:nvPicPr>
        <p:blipFill>
          <a:blip r:embed="rId2"/>
          <a:stretch/>
        </p:blipFill>
        <p:spPr>
          <a:xfrm>
            <a:off x="4876920" y="1752480"/>
            <a:ext cx="3047760" cy="1898640"/>
          </a:xfrm>
          <a:prstGeom prst="rect">
            <a:avLst/>
          </a:prstGeom>
          <a:ln w="0">
            <a:noFill/>
          </a:ln>
        </p:spPr>
      </p:pic>
      <p:sp>
        <p:nvSpPr>
          <p:cNvPr id="10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/>
          </p:nvPr>
        </p:nvSpPr>
        <p:spPr>
          <a:xfrm>
            <a:off x="1279080" y="1600200"/>
            <a:ext cx="71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Y chromosome contains a gene known as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 determin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ion on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romosome) g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gene is responsible for the development of te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0"/>
          <p:cNvSpPr/>
          <p:nvPr/>
        </p:nvSpPr>
        <p:spPr>
          <a:xfrm>
            <a:off x="1066680" y="57150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But what about the         fa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Picture 11" descr="chromosome"/>
          <p:cNvPicPr/>
          <p:nvPr/>
        </p:nvPicPr>
        <p:blipFill>
          <a:blip r:embed="rId1"/>
          <a:stretch/>
        </p:blipFill>
        <p:spPr>
          <a:xfrm>
            <a:off x="4267080" y="5105520"/>
            <a:ext cx="974880" cy="1752480"/>
          </a:xfrm>
          <a:prstGeom prst="rect">
            <a:avLst/>
          </a:prstGeom>
          <a:ln w="0">
            <a:noFill/>
          </a:ln>
        </p:spPr>
      </p:pic>
      <p:sp>
        <p:nvSpPr>
          <p:cNvPr id="10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1294920" y="838080"/>
            <a:ext cx="6340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develops an area known as the urogenital 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ess testes develop, this area will naturally develop into the female reproduc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, we are all female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fetal sex organ development 2"/>
          <p:cNvPicPr/>
          <p:nvPr/>
        </p:nvPicPr>
        <p:blipFill>
          <a:blip r:embed="rId1"/>
          <a:stretch/>
        </p:blipFill>
        <p:spPr>
          <a:xfrm>
            <a:off x="1219320" y="0"/>
            <a:ext cx="6546600" cy="6858000"/>
          </a:xfrm>
          <a:prstGeom prst="rect">
            <a:avLst/>
          </a:prstGeom>
          <a:ln w="0">
            <a:noFill/>
          </a:ln>
        </p:spPr>
      </p:pic>
      <p:sp>
        <p:nvSpPr>
          <p:cNvPr id="10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024" name="Picture 4" descr="fetal sex organ development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429080"/>
          </a:xfrm>
          <a:prstGeom prst="rect">
            <a:avLst/>
          </a:prstGeom>
          <a:ln w="0">
            <a:noFill/>
          </a:ln>
        </p:spPr>
      </p:pic>
      <p:sp>
        <p:nvSpPr>
          <p:cNvPr id="10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BUT…how does this happen??</a:t>
            </a: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407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estes form they releas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 hormon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estosterone &amp; MIS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leri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ibit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b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s the male reproductive system to deve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s the ducts of the female system to degen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2" descr="Male Body"/>
          <p:cNvPicPr/>
          <p:nvPr/>
        </p:nvPicPr>
        <p:blipFill>
          <a:blip r:embed="rId1"/>
          <a:stretch/>
        </p:blipFill>
        <p:spPr>
          <a:xfrm>
            <a:off x="6095880" y="3505320"/>
            <a:ext cx="1347840" cy="2971800"/>
          </a:xfrm>
          <a:prstGeom prst="rect">
            <a:avLst/>
          </a:prstGeom>
          <a:ln w="0">
            <a:noFill/>
          </a:ln>
        </p:spPr>
      </p:pic>
      <p:sp>
        <p:nvSpPr>
          <p:cNvPr id="1030" name="Line 3"/>
          <p:cNvSpPr/>
          <p:nvPr/>
        </p:nvSpPr>
        <p:spPr>
          <a:xfrm>
            <a:off x="4343400" y="4876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Group 4"/>
          <p:cNvGrpSpPr/>
          <p:nvPr/>
        </p:nvGrpSpPr>
        <p:grpSpPr>
          <a:xfrm>
            <a:off x="990720" y="3657600"/>
            <a:ext cx="2743200" cy="2471400"/>
            <a:chOff x="990720" y="3657600"/>
            <a:chExt cx="2743200" cy="2471400"/>
          </a:xfrm>
        </p:grpSpPr>
        <p:pic>
          <p:nvPicPr>
            <p:cNvPr id="1032" name="Picture 5" descr="testosterone"/>
            <p:cNvPicPr/>
            <p:nvPr/>
          </p:nvPicPr>
          <p:blipFill>
            <a:blip r:embed="rId2"/>
            <a:stretch/>
          </p:blipFill>
          <p:spPr>
            <a:xfrm>
              <a:off x="990720" y="3657600"/>
              <a:ext cx="2743200" cy="18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3" name="Text Box 6"/>
            <p:cNvSpPr/>
            <p:nvPr/>
          </p:nvSpPr>
          <p:spPr>
            <a:xfrm>
              <a:off x="1831320" y="548640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stoster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 M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Group 7"/>
          <p:cNvGrpSpPr/>
          <p:nvPr/>
        </p:nvGrpSpPr>
        <p:grpSpPr>
          <a:xfrm>
            <a:off x="3278880" y="1523880"/>
            <a:ext cx="1386360" cy="642600"/>
            <a:chOff x="3278880" y="1523880"/>
            <a:chExt cx="1386360" cy="642600"/>
          </a:xfrm>
        </p:grpSpPr>
        <p:sp>
          <p:nvSpPr>
            <p:cNvPr id="1035" name="Line 8"/>
            <p:cNvSpPr/>
            <p:nvPr/>
          </p:nvSpPr>
          <p:spPr>
            <a:xfrm>
              <a:off x="3353040" y="18284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 Box 9"/>
            <p:cNvSpPr/>
            <p:nvPr/>
          </p:nvSpPr>
          <p:spPr>
            <a:xfrm>
              <a:off x="3278880" y="1523880"/>
              <a:ext cx="138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s 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mation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0"/>
          <p:cNvGrpSpPr/>
          <p:nvPr/>
        </p:nvGrpSpPr>
        <p:grpSpPr>
          <a:xfrm>
            <a:off x="6477120" y="1523880"/>
            <a:ext cx="1295280" cy="368280"/>
            <a:chOff x="6477120" y="1523880"/>
            <a:chExt cx="1295280" cy="368280"/>
          </a:xfrm>
        </p:grpSpPr>
        <p:sp>
          <p:nvSpPr>
            <p:cNvPr id="1038" name="Line 11"/>
            <p:cNvSpPr/>
            <p:nvPr/>
          </p:nvSpPr>
          <p:spPr>
            <a:xfrm>
              <a:off x="6477120" y="18284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Text Box 12"/>
            <p:cNvSpPr/>
            <p:nvPr/>
          </p:nvSpPr>
          <p:spPr>
            <a:xfrm>
              <a:off x="6480000" y="152388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du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Text Box 13"/>
          <p:cNvSpPr/>
          <p:nvPr/>
        </p:nvSpPr>
        <p:spPr>
          <a:xfrm>
            <a:off x="4136040" y="4572000"/>
            <a:ext cx="176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ature m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Group 14"/>
          <p:cNvGrpSpPr/>
          <p:nvPr/>
        </p:nvGrpSpPr>
        <p:grpSpPr>
          <a:xfrm>
            <a:off x="4800600" y="533520"/>
            <a:ext cx="1639800" cy="2501640"/>
            <a:chOff x="4800600" y="533520"/>
            <a:chExt cx="1639800" cy="2501640"/>
          </a:xfrm>
        </p:grpSpPr>
        <p:pic>
          <p:nvPicPr>
            <p:cNvPr id="1042" name="Picture 15" descr="testes"/>
            <p:cNvPicPr/>
            <p:nvPr/>
          </p:nvPicPr>
          <p:blipFill>
            <a:blip r:embed="rId3"/>
            <a:stretch/>
          </p:blipFill>
          <p:spPr>
            <a:xfrm>
              <a:off x="4800600" y="533520"/>
              <a:ext cx="16398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Text Box 16"/>
            <p:cNvSpPr/>
            <p:nvPr/>
          </p:nvSpPr>
          <p:spPr>
            <a:xfrm>
              <a:off x="5183280" y="266688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s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17"/>
          <p:cNvGrpSpPr/>
          <p:nvPr/>
        </p:nvGrpSpPr>
        <p:grpSpPr>
          <a:xfrm>
            <a:off x="914400" y="609480"/>
            <a:ext cx="2438280" cy="3019320"/>
            <a:chOff x="914400" y="609480"/>
            <a:chExt cx="2438280" cy="3019320"/>
          </a:xfrm>
        </p:grpSpPr>
        <p:pic>
          <p:nvPicPr>
            <p:cNvPr id="1045" name="Picture 18" descr="SRY gene 2"/>
            <p:cNvPicPr/>
            <p:nvPr/>
          </p:nvPicPr>
          <p:blipFill>
            <a:blip r:embed="rId4"/>
            <a:stretch/>
          </p:blipFill>
          <p:spPr>
            <a:xfrm>
              <a:off x="914400" y="609480"/>
              <a:ext cx="243828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6" name="Text Box 19"/>
            <p:cNvSpPr/>
            <p:nvPr/>
          </p:nvSpPr>
          <p:spPr>
            <a:xfrm>
              <a:off x="1145520" y="3048120"/>
              <a:ext cx="178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RY gene on th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 Chromoso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1T19:32:50Z</dcterms:created>
  <dc:creator>John Bojnowski</dc:creator>
  <dc:description/>
  <dc:language>en-US</dc:language>
  <cp:lastModifiedBy>LEGION2</cp:lastModifiedBy>
  <dcterms:modified xsi:type="dcterms:W3CDTF">2016-01-12T12:30:56Z</dcterms:modified>
  <cp:revision>8</cp:revision>
  <dc:subject/>
  <dc:title>Slide 1</dc:title>
</cp:coreProperties>
</file>